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1A50-B1A4-4425-B4DE-7A4384C6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14E8-3A99-453B-9258-818C8600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037C-3830-4601-84F4-4091F499F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ECEB-66D9-4817-96F5-2C5DF3F4F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E563-9F73-4FC3-8AF6-D1CA3CB47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4D3C-E07E-44EC-A1D2-637B0158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5C26-842D-44CF-AAB9-792546C0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1EE2-D84D-4724-9E0A-3B15526E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65B8-67E7-47A3-A39B-18BE0F3F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4FDA-773C-4353-BFCF-C0E115C4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6A32-3DF7-421A-8056-D3807356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BFE3-501C-4080-AAEF-6984C0F9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C053-A487-4C05-BDD5-C9EC8D3D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CCAE-FDEF-4F3F-90A0-651E13D8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0027-ED7C-4004-94D9-7A358C47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9C1F-432F-4F10-A151-2D31292AB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4BF7-7807-4069-96AB-D6317224E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4DB1-6C43-4F24-AFD2-13913DF8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7A15-236D-40A8-B24F-134F8EF9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E65C-6434-4EF9-911F-72008BA0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61B7-237E-41F5-9AE3-D0151750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3FC4-08D6-4E88-97CB-000A05E6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1995-4CD5-498E-B346-A0ED03B1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0180-69F6-4BF5-9F5C-21AFEB9A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39937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任意多边形 39938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任意多边形 39939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任意多边形 39940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圆角矩形 39941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F77B-5EC0-45F0-A06B-941F6B0F3B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40961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任意多边形 40962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任意多边形 40963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任意多边形 40964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圆角矩形 4096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2C94-1AD5-4D45-83C7-4194B25A8031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六章   保险投资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440" y="20574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实物资产投资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最主要的是不动产投资，也包括一些机械设备等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三、我国保险投资的形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018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年《保险资金运用管理办法》明确规定保险资金运用限于下列形式： （一）银行存款； （二）买卖债券、股票、证券投资基金份额等有价证券； （三）投资不动产； （四）投资股权； （五）国务院规定的其他资金运用形式。 保险资金从事境外投资的，应当符合中国保监会、中国人民银行和国家外汇管理局的相关规定。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第四节 保险投资主体模式的选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公司内设投资机构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委托专业的投资机构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专业化保险资产管理公司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五节  保险投资风险的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政府对保险业投资风险的监管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对保险投资范围的限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对保险投资比例的限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对投资资产与负债的配比关系的限制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对金融衍生工具的使用限制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公司对投资风险的管理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制定合理的投资策略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资产分配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投资组合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资产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析保险投资的资金来源和性质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投资的一般条件约束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投资的特殊条件约束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我国保险投资的主要方式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作为保险监管机构应从哪些方面加强对保险公司投资风险的管理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应该如何制定保险投资策略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如何选择证券组合可以降低非系统性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利率免疫技术？保险公司如何运用利率免疫技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术防范债券投资的利率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一节  保险投资的资金来源与性质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保险投资资金的来源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自有资金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资本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积金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负债资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非寿险未到期责任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赔款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责任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储金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存入分保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长期责任准备金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投资资金的性质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负债性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稳定性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性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二节  保险投资的条件约束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投资的一般条件约束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安全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收益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流动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投资的特殊条件约束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称性条件约束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替代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散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转移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平衡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第三节   保险投资的形式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金融资产类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债权类投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债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贷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股权类投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cp:keywords/>
  <dc:language>en-US</dc:language>
  <cp:lastModifiedBy>苏菲的小猫</cp:lastModifiedBy>
  <dcterms:modified xsi:type="dcterms:W3CDTF">2020-05-25T05:50:13Z</dcterms:modified>
  <cp:revision>23</cp:revision>
  <dc:subject/>
  <dc:title>没有幻灯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4</vt:lpwstr>
  </property>
</Properties>
</file>